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7546B-F8A9-423A-B417-D07A6E02E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06714-6D7C-4EA2-AD44-C0CE39362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CEF08-E450-4F05-9C87-82290ED9F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9B081-62AA-4390-9DE1-25C624E7F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5E1B4-E054-4839-B2F2-C693CD34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FBC04D-081E-447B-BC50-4281A2ECA5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DE4ABEC7-D975-4458-ABC6-68E071D59E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A983F630-E211-48E9-8CAF-9C8A048562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AAEFEF30-D748-4242-AD29-3579F1AF1A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9FBF639A-E554-48E4-B81D-026733C3C3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10C56-B74B-4D86-B68E-020C01CD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65C599C1-3982-4228-9808-F31BF551B82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4F7775F-CCE9-42BD-B9B3-F46487C7179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658F30A2-0D52-4928-85EA-E814D76B32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8D6DED8-F548-4604-BD64-65E5D08AAD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CE021B1E-6B82-49BC-A121-CDF6A94CE2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8909BBE4-5584-44E1-9855-4920795CE1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C5E59C39-3585-4E4B-97CB-57AB15205C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08CFA-FD8F-4C2B-B2CC-9FBA92FB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159AB-8331-452B-BD2A-BF3E3E9B4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18D8B-DAD0-44D8-849C-2B0E061DF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5C83B-2BB9-41B0-9B07-DBE85F275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EFE77-4662-4BA9-9BDE-74770EDC2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652E-087F-4D98-AFA3-74B58EBCC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519CC2A6-101B-4FF5-96D8-DD1EFDC6F1A8}"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404AC93F-72A2-411A-A2B9-F39146859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040FF2-7907-4613-A894-1F194421E0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17AFE7-2B66-4ECE-B6D0-863327C2D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1E58F2-80DC-43A6-96EB-CAD79D7D6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735FF7-94DE-4E1B-A1C1-E020278E6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E3D34F-F5F3-4ED0-AA60-2B37EA026E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08F2BB-7552-440E-9C70-3CEDA368B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E4D9BA-A33F-46F2-9D98-5883AF108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9208B7-FC7F-4799-906C-786B5D6E87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F687B6-3322-4171-B9F7-8FCAAD731A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6D80A7-51C8-46BA-A4F7-A0C2EDC68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76D853-0D2B-41DD-9FAE-1802D8177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2A5A95-D27D-4639-BCC0-2C9785B59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18DBC8-9626-495C-9DE8-E64FF342F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0F482B-9019-47E2-96E8-7E003507D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178FD9-6B5C-42B4-BAC7-A6714C58A4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A5B2A6-8B25-4B05-849B-1E0C9B2E8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39559F-3F02-4B64-85F0-587F5B563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v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rval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ABA4CC-0072-4678-AC15-1AA24484D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IPv6-based data exchange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8516E6-1B93-4A1F-A740-C7FCA7A9C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4A2798-C0C1-42B7-A01F-B11E1F7E7D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B90B35-A940-47FF-B931-A411FF1F07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219164-7779-4B0C-8CB9-A6C5AC18D7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381C4D-DD6E-4B4D-9752-6929BCE23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50826D-21F6-4899-9D77-AF98EDDD58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72257D-0C86-471A-A0E0-FB36A1027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AC15D9-5803-416F-BBEE-06F3B2C00F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661F3C-00C7-43F4-A16B-BC868D7981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9F485D-1002-44A9-A5A6-F7AD57B0F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5FFF45-B8E8-4D0C-BBDE-D7D286663E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C166A4-0725-4D17-8FDC-FA642222D7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51A09E-07D3-45DB-A755-CAC09F7DB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8AF4C6-437B-4333-8B18-F8EF7F3BA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7063AA-C2E1-4CEC-8CCE-DF925A317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049F26-1881-4465-AEC2-5F6A8666D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5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8330A8-D083-4C6D-A2D9-E9374814CD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695FE9-0B99-452B-A1A0-9CF56F24B2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A6354D-4E83-454B-AA12-DC75907A4A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CB0C35-9D95-40FE-8F73-918530DF54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B06855-C2ED-4804-BD49-574715CDC3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B95BA0-74F4-488E-98B2-3AEF8EAF42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A52312-D93C-4F33-B4D1-8FF751A07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EB3551-0D30-4AB5-9A49-D16C6F7EC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DCF648-1AA0-4215-AA7E-69E7E268F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5BCBEE-5C41-496B-8B29-23FD425ED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27C695-2918-4EF7-840C-20EEE4E5F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0B7C57-9B5F-413F-AB3E-C6253AFFE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CA3CFC-C1F6-46E0-BBB8-A7C7E6C55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3B986A-B785-45D1-84F1-59D0B0C89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38998B-6BAC-438F-AAAC-A0BF64FDE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CF2320-E347-4268-8B7D-62443FD715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936D25-8ED7-4D13-B7BD-4DF8BA5C46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ADBC87-9948-42BB-897D-22C3F98E9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5C3E79-B54A-48F8-AD9B-E0D8F2A4DC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59E776-0558-4732-AB49-EC7A66DB7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0857F1-232D-4802-84BE-D2BC46435F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7443EB-8BA2-4189-A609-0ED3EE563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02AB7A-1C5B-4AA6-9E16-605890937F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53C3FE-B1D4-43AA-B9BB-3339C666A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D447F8-2541-4C39-8B0D-508C48497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2B0907-D928-438C-88B1-8EB86B76D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13CBCC-E3C6-467C-817D-7DE1D0D11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5DF956-D918-40C7-95EB-BE14AE6A2C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9E929E-00F3-4D03-96F6-8F4E07F73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1DBA5A-AC91-4FC4-8E7E-CAE06D5BF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5227C0-5306-4539-980C-0032A9F35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7444E9-ABA7-4CA9-A9F8-81466E854D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8971CB-1D68-4242-8B02-D0018D8D1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F9EE0E-B120-4F10-B9E8-6AFC51DED1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185540-C701-436A-AAA9-A7BFF62101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A71F7E-E980-4E6C-B0A7-A15F744F6E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0636B0-07EE-4A0F-B72C-5D006EC1E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E241A0-5C2C-411A-A1D0-B5221652F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77A00C-9EB6-4DB2-862A-DE041406F2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8FA50C-AACA-4657-BCB5-94A2391CB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789BE2-5BC1-4EDA-AEB3-ED3E34452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22B71E-4D96-4F6C-A141-8BE278196B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DE3623-AFC1-44FE-ADC5-1D3654D490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0A9023-F465-4FF8-91AF-34E3DC42C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101202-755F-42ED-AA0D-0E384A93E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AA0C6C-284E-4B84-B502-15704EC9C6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BB28E5-8684-450D-B411-6C0B148E8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0ABDDD-41EC-400B-8814-2D034CEBC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6A1C6E-7CE7-4C01-853D-2167381145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BD7A60-069C-434C-AE3B-3E44926B8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D34C09-50DF-4119-8A9E-2F001E4E9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768E40-F6A7-4180-8509-E7B1DB0EA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B65571-17A9-4DA6-AF9E-58850678A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E6B187-6490-4C34-8020-E0B106636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5AD33C-372E-4CCE-919E-6F1DDEC66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08176F-C3E9-4EA8-898B-8BCA2CC75D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BC8157-7733-450D-B6E2-E596B2616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FBDFEA-F2EC-4504-A984-733ECD14C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9DD334-A25D-4043-8E83-2497E4526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619058-8872-4EE5-8DDD-E4E7567B5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86F0C6-8BC1-4AEA-8FFD-AD0B6A6AE1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26634A-4971-4368-B52A-DC129819D1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773FEF-A32F-42C7-B60E-D7619BCD8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63D7F9-5292-444C-8B2F-21AA3C220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9CACE5-F409-4AA2-B6EF-18F82953F0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A7BF93-8E26-4170-84B5-B27703ED5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8DB9006-87E2-471B-9BA2-B51D5EDBDB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D84132-426E-4A0D-8A19-FCDDCEC75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7F1339-26FF-41FB-B447-E160AB8CC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0834EA-B056-495D-BA3B-323CCBCC9F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F3F753-B2A3-466F-B0CC-E468935F19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DD89C4-7983-46D4-ADFD-41D1896C70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762997-2B45-4379-82C1-70FB50D3D3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2C0FFA-DCF9-4614-97DE-3B93901A1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7B1C77-0517-4F6A-92DD-8FB8EA2029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8CF42D-912F-4875-8BD9-A9C00E5628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A839BD-2C32-4E0E-97C4-45F1ACEDD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8F0C61-80B6-44AD-9F85-4372E8883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216E86-1E2B-4734-9F27-5989A05A0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81B329-0DDF-47D4-B56D-5E47340382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A10068-F2A1-4C54-B7B0-000064AE9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B727F2-113C-45D1-92B3-8AA4A0DBF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FDA9F5-EF51-4136-A39B-440C496B9A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823BDA-1180-43D0-9388-64882ACC73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43D152-3B69-46B0-883A-558BD1522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09619B-A18D-4604-A1E9-27AC8AD533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580CBE-A7C4-4D74-9989-5DEFFE4B1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026C56-0FEE-4473-84BA-3354D2FE2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9F681F-F974-47AB-A406-3B83BAE904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7-02T17:44:05Z</dcterms:modified>
  <cp:revision>874</cp:revision>
  <dc:subject/>
  <dc:title>Agena Language Summary</dc:title>
</cp:coreProperties>
</file>